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C90-CA67-43DF-AA23-427449C6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1A4-8F67-44A7-A37C-C71CEC1F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C7C-5800-4F7F-BCF4-0B64681D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97D-44EC-463F-A88F-4D76E6F4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D8E-5BC0-49F2-BC46-D27783E2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8CA-5C38-49A2-A8F5-11BC7B4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103-6423-4009-A325-5101EC5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5FF-B717-428C-BFC9-05A39E8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D5E-4543-4AE5-B844-26D77CF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01A-896A-41ED-8973-B206FCAB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ADC-4723-4A93-B000-7D5CCFF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1DA-2CCB-44D2-93D9-E046533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4F0B-E82A-43EA-90DB-5B37D6D95B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12DA-537D-48B1-BC08-C7C68C9B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9FD-6B6A-4C64-B457-85AF8F05A7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3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ED2-2D9C-48F0-85D6-A3098C63B49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0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DFD-DC74-44FD-80C5-E24B27ABFD4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FF9-71FF-4DC5-9E93-9443D9A92C4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A4D-A785-4B2D-9780-CBBA07FF241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B5F-C4F7-4D0F-AF7C-7CCB329F906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195-2818-4AD3-940E-DBE61CAB069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077-C903-43BC-A7AE-62A38A024CE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A4A-1ADD-4097-8D8B-A8F53300219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BBE-6462-444B-BF40-89735B2BFFC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C32-498D-4AD3-8453-4C206717103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4B1-F571-4EB2-AA77-C920F96756C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BFF-B60B-49EB-A624-FAB7F153016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0E6-B064-465C-AD76-473DC054136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7B6-17BC-448C-B56F-C67B13F88EE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: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59E-F8FB-4F6D-B92D-FC05B0DC891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E52-7044-452A-A6DE-954EDBEE21B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7A9-F91B-4E1C-90C7-60F655016D5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518184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051-FF02-4005-BCDE-0B0B67E6795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: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796-2B61-45E9-BA21-0959D40FE39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C0F-1163-4028-9832-A0B35453C9A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C59-DA9E-45B6-9078-22EBEB4DB9C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FB3-B1BD-4A5D-A025-A0C80EFAFF5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86D-B9D3-4915-B9C3-DE4CD2353AA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:5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757-B06C-47E9-89E8-E19163B1A55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E20-6699-4EA3-B953-9499FD106282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ADD-75C2-491F-A90A-C6BAB3E5C40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146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2895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82F-3322-40AA-84DF-7DF266C491E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7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E8F-350A-4640-8683-855009614C3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19720" y="3971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4100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666880" y="29433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A29-D3FA-4B1F-9FAC-E22498F84FF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105-EDA7-4A93-B13C-CF7815064B3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A14-86AA-4FD2-AB94-5D38B0C219EC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030-A255-45BC-9905-E70CC14B76D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326-A80F-4AF7-98E9-0B709ADBE8D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510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 Qua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8 Nick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43D-D2AE-4332-BB0A-C6E07DB927D5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D3D-6E01-4F2D-A3A4-E31A3DE956B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523880"/>
            <a:ext cx="5105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2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 D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Nic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9E9-5C20-4975-B018-8F0F97EFC947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F3D-6F77-4F60-9348-42E96334584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49B-09B1-4644-BE47-355E6F0A3477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97E-436B-4203-869E-51CFD4251B3A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80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Jimmy buys 7 pencils from the school store. Santa gave Jimmy 12 more in his stocking for Christm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57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1- How many pencils does Jimmy hav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2- What is the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3- Write the number model for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8D1-2C92-4B39-A788-52764963F98D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77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-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- penc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- 7+12=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E02-30B0-4A04-87FC-CAAF1637598F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72-4349-48BF-AC9D-A897A4ED019D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37C-9D00-45AB-B7D0-3B0FA652DB73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40E-7A40-4ABA-BF87-61CB6D7B8186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Which numbers don’t bel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15, 25, 35, 40, 55, 65, 105, 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8, 10, 12, 16, 17, 18, 20, 22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257-71DD-419E-AEAA-C3DEBB887171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40, 1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16, 17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86C-A3D3-4E53-BBC9-BFA2076958D8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463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990720"/>
            <a:ext cx="129564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0200"/>
            <a:ext cx="12956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1320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132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2308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796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2308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37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133000">
            <a:off x="7428960" y="42289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75568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23880" y="43434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2196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990720"/>
            <a:ext cx="129528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600200"/>
            <a:ext cx="12952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457200"/>
            <a:ext cx="25909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581-8B4C-4AA3-94EF-7AF36EC838B2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9954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-457200" y="499896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00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1905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891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6588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6076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6588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6076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65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133000">
            <a:off x="6972120" y="305568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9848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066680" y="317016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6476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BE7-1637-4D91-A9A1-E010876A3CA1}" type="slidenum">
              <a:t>53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2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818-CDC6-42E4-B486-96D30832EE7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4A7-C932-4C1D-AF8A-A04A2331E95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4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2C1-43F8-4C9D-BDC7-111D50464E8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95B-43C1-48F0-8B63-1DBFF487C34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Property of</cp:lastModifiedBy>
  <dcterms:modified xsi:type="dcterms:W3CDTF">2009-01-04T20:53:10Z</dcterms:modified>
  <cp:revision>34</cp:revision>
  <dc:subject/>
  <dc:title>Blank Jeopardy</dc:title>
</cp:coreProperties>
</file>